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801-441F-4A91-9FD2-D3C5D9BF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E27-90F2-4742-B7AC-5219EEF7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DC7-6FFE-4FE3-9F0B-42A98913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AEA-DCA4-4C15-8C0E-51ACDEE7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A64F-74DD-46D2-BFAA-BF1AF8E7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4BFC-CF1C-42FC-AF39-1FC7FCB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127A-B117-4734-8CF5-02F5BC6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F152-158B-4725-AC71-B23504AD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F46D-D603-4DEA-97DE-F493DC50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FED2-72C3-48F3-92AF-A9009BB3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5E62-D173-462B-9362-8D73AD5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EEC-DA71-4553-9D6F-3ADAF0D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78F9-C394-499A-8186-01DD87D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87CD-981A-40CD-9638-9B18AC1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30F-CCF0-4F22-B602-84CBCF92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A4C-B239-4CB2-A600-55308217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68E-B1E2-47C4-A04B-EE5C306F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C2C-1D18-4060-A16D-97472598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6E7-5724-4343-910F-7023404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FD0-41B9-4E77-8D6D-BE09892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28B-56A0-4A7C-873C-1C798771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391-88A7-4AB6-9A9F-8DD1BD4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BBA-6148-4F9F-B44C-0CCA960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B4D-AD03-4B9B-9DF7-BD1D6E0B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E42-1F19-4048-B1D8-37C873A041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F8F-9357-4869-AC5B-21144C22D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Bodoni MT Black"/>
              </a:rPr>
              <a:t>LE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Luke 13:20-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ome of the effects Christianity had on the cultu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Love for one another (Jno 13:34-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5); love fo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nemies – talk of Roman Empi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rucifixion was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lavery became a declining practice (1 Pe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; Philm 16; Gal 3:2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ractice of Infanticide was repr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ames of brutality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assaulted immor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elevated womanhoo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ivorced was curtail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ignity was given to labor (Eph 4:28; 6:6; 2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ss 3: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umerous benevolence &amp; educational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nstitutions resul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essons Learn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hrist never indorsed monasticism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(order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f Monks). Christians are i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e worl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ut not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enguiat Bk BT"/>
              </a:rPr>
              <a:t>of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 the worl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Each faithful follower of Christ is leav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onversely, if not faithful; still leaven, but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ith disastrous results.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“Leaven of the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Pharise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is parable stresses the internal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ctivities of the Kingdom.  Shows ho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orship &amp; fellowship enable us to blen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urselves into the rich culture of Christia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if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s:  The Kingdom is characterized by inner converting power through highly contagi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is text is a parallel to Matthew 13:1 &amp; Mark 4:1, though Mark omits the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ustard See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mphasis of the Mustar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d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xten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’s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essential to understanding the par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– (Gk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to boil;” “fervor;” “zeal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Generally a Biblical figure for impurity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corruption, evil, adulteration and ba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rk 8:15 – Leaven of Pharisees &amp; Her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Cor 5:6; Gal 5:9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 leaven leavens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whole lump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k 12: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Leaven of Pharisees (Hypocris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Ex 13:3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srael purges leaven as symbol of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Egy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Lev 2:1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was excluded from the meal-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off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innately bad or evil –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symbolically so whe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text so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Lev 2:11 (worship sacrific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Lev 2:12 – Allow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Lev 23:17 – Deman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Matt 13:33 – Leaven does t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dough what the Kingdom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Christ does to the world –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tha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 Simply because a figure may b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symbolic of evil in general Biblical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contexts, the same figure can stand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for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1 Pet 5:8 – Satan seen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roaring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lion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in Rev 5:5 Christ i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on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Juda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Hos 7:11 –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Ephraim…a silly dove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in Matt 10:16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same dove is praised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harmless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Psalm 37:35-36 – Wicked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ke green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tree in native soil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Psalm 1:3 sees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righteous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tree planted by streams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water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ree measures of flour =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pha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n Hebrew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ev. 5:11 – equal to 2 qu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mount prepared at one time for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woma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: Does not represent Holy Spirit o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me expositors make the interpretation foreign to intent of the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y would ma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lways repres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woman who hid the leaven would b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postat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Hiding the leaven would represent evil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likens the leaven to the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contrary to Mustard S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his would make the Kingd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e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Until the whole is leavened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dicts the gospe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eached in all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of this parable is the same as Mustard Seed – Small beginnings can have big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show another side of the acti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y which the Kingdom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gives a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incentiv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view of growth of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Little Leave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Gal 5:9 – Spread of Gospel had profound effect on the culture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4:05:51Z</dcterms:created>
  <dc:creator>Jerry Cantrell </dc:creator>
  <dc:description/>
  <dc:language>en-US</dc:language>
  <cp:lastModifiedBy>Jerry Cantrell </cp:lastModifiedBy>
  <dcterms:modified xsi:type="dcterms:W3CDTF">2006-01-24T17:10:47Z</dcterms:modified>
  <cp:revision>9</cp:revision>
  <dc:subject/>
  <dc:title>THE PARABLE OF THE LEAVEN</dc:title>
</cp:coreProperties>
</file>